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92B-548C-4E2B-BE28-9EA4F618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0E3-8DA0-47D0-B72E-1BEF0A5C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798-D4A1-4AF0-AC76-0B220C7E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1AF-83CD-4B2E-85C3-2A22C9B4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DFB-DE59-48D5-B306-528528CB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DE7-646D-496C-BFC1-5D71C33E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59E-26FD-4983-B739-B47E2385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81E-DB31-4292-B142-754EEC50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8EE-23C1-4E41-AECB-1D948918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A4F-1685-4357-9412-3ED4984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0D3-5693-498F-BD57-97A87B8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786-8CD7-44E1-9782-FCED303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2FFB-E89B-41E2-9C0D-3AAB46F25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G, MRAP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tow an M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8212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08280" y="2603520"/>
            <a:ext cx="5459400" cy="82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5905440"/>
            <a:ext cx="556092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5400000">
            <a:off x="6222240" y="-254880"/>
            <a:ext cx="188136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 rot="5400000">
            <a:off x="1361880" y="3038400"/>
            <a:ext cx="184788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6320" y="76320"/>
            <a:ext cx="42433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7320" y="2514600"/>
            <a:ext cx="6167160" cy="102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52520" y="3630600"/>
            <a:ext cx="6437520" cy="261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209680" y="60948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ution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Moyers</cp:lastModifiedBy>
  <dcterms:modified xsi:type="dcterms:W3CDTF">2009-01-02T13:14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